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52E8-924D-4C58-A972-D8393ADB3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8F8C-E2CF-44B1-8FF5-014BAC06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AF59-6B18-4B52-B39B-49208732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3CD3-56E6-4865-AE24-7C464BC84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C527-A216-4692-939A-A66A4ED23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CA13-25DB-4195-9204-0370E492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CB22-E554-4DE0-BA6A-83A5020F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A6E0-0D68-4BFA-9698-E2A963F7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62A7-56BD-4999-BCE5-73CBFBF0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58AC-1C2E-4F65-891E-E4FC4ED7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F68B-3A8B-449A-9A9B-33BC7569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1101-FFFF-4FBB-8F31-4A30D421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6721-7A51-40C5-B83E-DE2C14AE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DA61-B71C-4D06-A14E-0EDF7167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34EA-6AED-448E-8D25-3DD261B9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C82A-6718-4B9F-8825-65FAB0F53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4F13-C7E6-4CD1-9770-3F76E9A3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95D77-E4F6-43BE-985E-B768A5D70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81575-8DC0-4958-934E-5B62E138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F62DF-972A-4599-8A1A-55C4031D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F3098-44DF-4034-8E27-D58BCE70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E5DED-7AF0-4C9D-884E-D7A5AD1D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2DD9-C991-468C-A88C-607583FA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202BE-6832-452C-907A-DFF5E3C8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4A06A-714E-4838-9979-21662A85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AD163-A637-4F44-83F5-1683A037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62E63-5B01-4596-B0BE-240BC682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CAD55-94F9-407F-A225-42B4C78F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BD5B3-04ED-4537-AB96-DEF69779F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0B6E6-77B8-4826-9641-34B79293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F7FC-36DE-4BB9-A027-1D56CB77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CAB5-D780-4EB8-937E-DD5E1628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C193-C170-4B47-AD94-D0281DA2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5FE7-F46C-45F8-B5EA-60B2765D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5DDE-B51B-4865-AB8A-90818BC9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C8DE-F8EA-4501-831E-686642CB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slideLayout" Target="../slideLayouts/slideLayout25.xml"/><Relationship Id="rId32" Type="http://schemas.openxmlformats.org/officeDocument/2006/relationships/slideLayout" Target="../slideLayouts/slideLayout26.xml"/><Relationship Id="rId33" Type="http://schemas.openxmlformats.org/officeDocument/2006/relationships/slideLayout" Target="../slideLayouts/slideLayout27.xml"/><Relationship Id="rId34" Type="http://schemas.openxmlformats.org/officeDocument/2006/relationships/slideLayout" Target="../slideLayouts/slideLayout28.xml"/><Relationship Id="rId35" Type="http://schemas.openxmlformats.org/officeDocument/2006/relationships/slideLayout" Target="../slideLayouts/slideLayout29.xml"/><Relationship Id="rId36" Type="http://schemas.openxmlformats.org/officeDocument/2006/relationships/slideLayout" Target="../slideLayouts/slideLayout30.xml"/><Relationship Id="rId37" Type="http://schemas.openxmlformats.org/officeDocument/2006/relationships/slideLayout" Target="../slideLayouts/slideLayout31.xml"/><Relationship Id="rId38" Type="http://schemas.openxmlformats.org/officeDocument/2006/relationships/slideLayout" Target="../slideLayouts/slideLayout32.xml"/><Relationship Id="rId39" Type="http://schemas.openxmlformats.org/officeDocument/2006/relationships/slideLayout" Target="../slideLayouts/slideLayout33.xml"/><Relationship Id="rId40" Type="http://schemas.openxmlformats.org/officeDocument/2006/relationships/slideLayout" Target="../slideLayouts/slideLayout34.xml"/><Relationship Id="rId41" Type="http://schemas.openxmlformats.org/officeDocument/2006/relationships/slideLayout" Target="../slideLayouts/slideLayout35.xml"/><Relationship Id="rId42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90A9-9281-41A9-988D-384A535E4E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4A18-85B3-44F0-A284-72B66478D3B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3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7848720" y="1080"/>
              <a:ext cx="1294920" cy="6308640"/>
              <a:chOff x="7848720" y="1080"/>
              <a:chExt cx="1294920" cy="630864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8382240" y="1080"/>
                <a:ext cx="761400" cy="2270520"/>
                <a:chOff x="8382240" y="1080"/>
                <a:chExt cx="761400" cy="2270520"/>
              </a:xfrm>
            </p:grpSpPr>
            <p:grpSp>
              <p:nvGrpSpPr>
                <p:cNvPr id="88" name=""/>
                <p:cNvGrpSpPr/>
                <p:nvPr/>
              </p:nvGrpSpPr>
              <p:grpSpPr>
                <a:xfrm>
                  <a:off x="8704080" y="1080"/>
                  <a:ext cx="279000" cy="276120"/>
                  <a:chOff x="8704080" y="1080"/>
                  <a:chExt cx="279000" cy="276120"/>
                </a:xfrm>
              </p:grpSpPr>
              <p:grpSp>
                <p:nvGrpSpPr>
                  <p:cNvPr id="89" name=""/>
                  <p:cNvGrpSpPr/>
                  <p:nvPr/>
                </p:nvGrpSpPr>
                <p:grpSpPr>
                  <a:xfrm>
                    <a:off x="8704080" y="1080"/>
                    <a:ext cx="279000" cy="276120"/>
                    <a:chOff x="8704080" y="1080"/>
                    <a:chExt cx="279000" cy="276120"/>
                  </a:xfrm>
                </p:grpSpPr>
                <p:sp>
                  <p:nvSpPr>
                    <p:cNvPr id="90" name="未知"/>
                    <p:cNvSpPr/>
                    <p:nvPr/>
                  </p:nvSpPr>
                  <p:spPr>
                    <a:xfrm rot="16200000">
                      <a:off x="8742960" y="-37800"/>
                      <a:ext cx="201240" cy="27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未知"/>
                    <p:cNvSpPr/>
                    <p:nvPr/>
                  </p:nvSpPr>
                  <p:spPr>
                    <a:xfrm rot="16200000">
                      <a:off x="8751960" y="93600"/>
                      <a:ext cx="141120" cy="22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2" name=""/>
                  <p:cNvSpPr/>
                  <p:nvPr/>
                </p:nvSpPr>
                <p:spPr>
                  <a:xfrm rot="16200000">
                    <a:off x="8823960" y="12888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未知"/>
                  <p:cNvSpPr/>
                  <p:nvPr/>
                </p:nvSpPr>
                <p:spPr>
                  <a:xfrm rot="16200000">
                    <a:off x="8755920" y="74160"/>
                    <a:ext cx="43200" cy="5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未知"/>
                  <p:cNvSpPr/>
                  <p:nvPr/>
                </p:nvSpPr>
                <p:spPr>
                  <a:xfrm rot="16200000">
                    <a:off x="8829000" y="61200"/>
                    <a:ext cx="6372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未知"/>
                  <p:cNvSpPr/>
                  <p:nvPr/>
                </p:nvSpPr>
                <p:spPr>
                  <a:xfrm rot="16200000">
                    <a:off x="8897040" y="11124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未知"/>
                  <p:cNvSpPr/>
                  <p:nvPr/>
                </p:nvSpPr>
                <p:spPr>
                  <a:xfrm rot="16200000">
                    <a:off x="8823600" y="19080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未知"/>
                  <p:cNvSpPr/>
                  <p:nvPr/>
                </p:nvSpPr>
                <p:spPr>
                  <a:xfrm rot="16200000">
                    <a:off x="8771400" y="165600"/>
                    <a:ext cx="3888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9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2240" y="228600"/>
                  <a:ext cx="29484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44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160"/>
                  <a:ext cx="29484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16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44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8960"/>
                  <a:ext cx="29484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44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44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6" name=""/>
              <p:cNvGrpSpPr/>
              <p:nvPr/>
            </p:nvGrpSpPr>
            <p:grpSpPr>
              <a:xfrm>
                <a:off x="7848720" y="1600200"/>
                <a:ext cx="828720" cy="4709520"/>
                <a:chOff x="7848720" y="1600200"/>
                <a:chExt cx="828720" cy="4709520"/>
              </a:xfrm>
            </p:grpSpPr>
            <p:pic>
              <p:nvPicPr>
                <p:cNvPr id="10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640" y="1600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47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640" y="25142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2240" y="2742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1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2240" y="3276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5040" y="35049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5040" y="388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640" y="4114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5040" y="4876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5040" y="54097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5040" y="6019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26" name="未知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EFE8-CC22-44C7-9A41-3DEDCB29BCF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1"/>
    <p:sldLayoutId id="2147483676" r:id="rId32"/>
    <p:sldLayoutId id="2147483677" r:id="rId33"/>
    <p:sldLayoutId id="2147483678" r:id="rId34"/>
    <p:sldLayoutId id="2147483679" r:id="rId35"/>
    <p:sldLayoutId id="2147483680" r:id="rId36"/>
    <p:sldLayoutId id="2147483681" r:id="rId37"/>
    <p:sldLayoutId id="2147483682" r:id="rId38"/>
    <p:sldLayoutId id="2147483683" r:id="rId39"/>
    <p:sldLayoutId id="2147483684" r:id="rId40"/>
    <p:sldLayoutId id="2147483685" r:id="rId41"/>
    <p:sldLayoutId id="2147483686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382680"/>
            <a:ext cx="4495680" cy="38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0605a"/>
                </a:solidFill>
                <a:latin typeface="Arial"/>
                <a:ea typeface="黑体"/>
              </a:rPr>
              <a:t>********</a:t>
            </a:r>
            <a:r>
              <a:rPr b="0" lang="zh-CN" sz="2000" spc="-1" strike="noStrike">
                <a:solidFill>
                  <a:srgbClr val="30605a"/>
                </a:solidFill>
                <a:latin typeface="Arial"/>
                <a:ea typeface="黑体"/>
              </a:rPr>
              <a:t>处</a:t>
            </a:r>
            <a:r>
              <a:rPr b="0" lang="zh-CN" sz="2000" spc="-1" strike="noStrike">
                <a:solidFill>
                  <a:srgbClr val="30605a"/>
                </a:solidFill>
                <a:latin typeface="Arial"/>
                <a:ea typeface="黑体"/>
              </a:rPr>
              <a:t>2011</a:t>
            </a:r>
            <a:r>
              <a:rPr b="0" lang="zh-CN" sz="2000" spc="-1" strike="noStrike">
                <a:solidFill>
                  <a:srgbClr val="30605a"/>
                </a:solidFill>
                <a:latin typeface="Arial"/>
                <a:ea typeface="黑体"/>
              </a:rPr>
              <a:t>年度工作目标</a:t>
            </a:r>
            <a:r>
              <a:rPr b="0" lang="zh-CN" sz="2000" spc="-1" strike="noStrike">
                <a:solidFill>
                  <a:srgbClr val="30605a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82680" y="1068120"/>
            <a:ext cx="7237440" cy="54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初制定的目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做好重点学科建设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加强与郑州大学联合培养硕士研究生的硕士学科点建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情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生态学、环境科学、区域经济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已与郑州大学签订联合培养协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仿宋_GB2312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仿宋_GB2312"/>
              </a:rPr>
              <a:t>（具体情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拟启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第二批校级重点学科建设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情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已启动第二批校级重点学科建设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仿宋_GB2312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仿宋_GB2312"/>
              </a:rPr>
              <a:t>（具体情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度制定的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目标的完成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度制定的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目标的完成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此类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382680"/>
            <a:ext cx="4495680" cy="38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0605a"/>
                </a:solidFill>
                <a:latin typeface="Arial"/>
                <a:ea typeface="黑体"/>
              </a:rPr>
              <a:t>*******</a:t>
            </a:r>
            <a:r>
              <a:rPr b="0" lang="zh-CN" sz="2000" spc="-1" strike="noStrike">
                <a:solidFill>
                  <a:srgbClr val="30605a"/>
                </a:solidFill>
                <a:latin typeface="Arial"/>
                <a:ea typeface="黑体"/>
              </a:rPr>
              <a:t>处</a:t>
            </a:r>
            <a:r>
              <a:rPr b="0" lang="zh-CN" sz="2000" spc="-1" strike="noStrike">
                <a:solidFill>
                  <a:srgbClr val="30605a"/>
                </a:solidFill>
                <a:latin typeface="Arial"/>
                <a:ea typeface="黑体"/>
              </a:rPr>
              <a:t>2012</a:t>
            </a:r>
            <a:r>
              <a:rPr b="0" lang="zh-CN" sz="2000" spc="-1" strike="noStrike">
                <a:solidFill>
                  <a:srgbClr val="30605a"/>
                </a:solidFill>
                <a:latin typeface="Arial"/>
                <a:ea typeface="黑体"/>
              </a:rPr>
              <a:t>年度工作目标</a:t>
            </a:r>
            <a:r>
              <a:rPr b="0" lang="zh-CN" sz="2000" spc="-1" strike="noStrike">
                <a:solidFill>
                  <a:srgbClr val="30605a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382680" y="1068120"/>
            <a:ext cx="7237440" cy="54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一、业务重点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二、日常工作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三、共性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1T17:40:50Z</dcterms:created>
  <dc:creator>Catalogacion</dc:creator>
  <dc:description/>
  <dc:language>en-US</dc:language>
  <cp:lastModifiedBy>zmdgl</cp:lastModifiedBy>
  <cp:lastPrinted>1899-12-30T00:00:00Z</cp:lastPrinted>
  <dcterms:modified xsi:type="dcterms:W3CDTF">2011-01-13T04:03:42Z</dcterms:modified>
  <cp:revision>13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